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C11-6FA2-4F10-B21C-F93C2A94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F13-96A0-4BA0-9AA6-9B78C260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25F-EB48-4330-8613-FFB5BAE0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37D-5D6C-4906-9DBD-0CF60931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9571-F5D7-4F79-941B-92423C94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213F-562B-432C-ACBF-CDC2A49A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1A52-F98A-4928-B840-4BDF9156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0967-AF78-4DC0-8C4E-D5AE7D8B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413D-AA67-400B-B18B-71E087D9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558D-0C15-49BC-AAAF-C81311FA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A3EB-8993-4FFE-9B6C-CF909F07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2B4-E16E-4A22-8096-D944D6BD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EA80-7832-408B-81E3-FB480701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CD76-F85D-4AA7-AE40-D422F154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BCDD-C9BE-4AC5-9FEF-3C12311F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8B81-1579-4150-AB08-1C4F2D92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F86C-74A3-43BE-9A74-C3E48767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EAE-8583-41D4-8095-A5047496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917-9EF7-4573-B4EA-E6581979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A6B-C6B4-42CD-A713-FBC63AF1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CDA-AD3B-4BF9-B5B5-56E47975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5FD-809A-4140-A9DA-9833ED19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8C5-C84B-4810-9130-C11883FA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9A6-8C1C-4EBE-9FC9-82C0D2A3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7655-E058-45AD-AE47-5FD476FB98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7FAD-5340-486C-9C6E-EF8188C44E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Organic Chemis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22 +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mon Functional Grou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228600" y="1792440"/>
            <a:ext cx="937260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enzene and Aroma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zene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- probably the most important aromatic compound (used in plastics, dyes, medicines, paint, explosives, fragrances,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matic- compounds containing benzene r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29360" y="3724200"/>
            <a:ext cx="39146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oline, Esters, Polym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ional Distillation- used to separate crude oil into useful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erification- making esters from an acid and an alc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erization- making large repeating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- no particles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ensation- eliminates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signment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. 4-6 p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XT WEE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ES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DNES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RS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Organic Chemis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rganic vs. Inorganic Chemist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organic compounds contain carbon, inorganic compounds do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rganic Compou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itially obtained only from living organisms (living &amp; fossilized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crude oil, protein, fats, dyes, c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ganic Synthe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induced production of organic compounds in a lab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pharmaceuticals, addi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ganic Vocabul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drocarb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mpound containing only C &amp; 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ivativ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mpounds where H is replaced by another type of 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bon Backb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ngest carbon chain within a molecule (also used to name the compou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branched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n backbone form a linear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ranched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rbon backbone branches off at least 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aturated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ains all C-C single b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saturated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ain at least 1 C=C or C≡C bo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rawing Simple Hydrocarb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003680" indent="-5601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kane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turated hydrocarbons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n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67280" indent="-4802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ixes: meth-, eth-, prop-, but-, pent-, hex-, hept-, oct-, non-, dec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67280" indent="-4802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ing: -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3680" indent="-5601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ke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nsaturated hydrocarbons with at least 1 C=C bond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30880" indent="-400320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 in –ene (Ex: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ente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3680" indent="-5601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ky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nsaturated hydrocarbons with at least 1 C≡C bond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n-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30880" indent="-400320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 in –yne (Ex: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penty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aming and Isom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mers- compounds with exact molecular formulas, but different structural formu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mers have different nam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longest chain of carbons (backb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carbons in the back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 prefix and ending (are there double/triple bond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substituent groups (Ex: methyl, ethyl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habet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rawing/Naming Isom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ing Handout p. 2 p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ganic Functional Grou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ly found groups of atoms that appear in many organic compounds (see handou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Represen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N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ydrocarbo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22:46:23Z</dcterms:created>
  <dc:creator>cmichene</dc:creator>
  <dc:description/>
  <dc:language>en-US</dc:language>
  <cp:lastModifiedBy>udsd</cp:lastModifiedBy>
  <dcterms:modified xsi:type="dcterms:W3CDTF">2008-08-19T14:09:09Z</dcterms:modified>
  <cp:revision>20</cp:revision>
  <dc:subject/>
  <dc:title>Organic Chemistry</dc:title>
</cp:coreProperties>
</file>